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8434-250F-4AA1-A48B-C80B4C0E6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55F9-E7EB-4E76-8F45-377A2FFFA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BD9D-7786-407D-8FAC-E35AA1871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54D6-5608-4339-BA21-A1CBE6B1B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C6EF4-34F7-4979-93A6-7792AB1DB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6C9FA-D115-4F1F-89EF-58A69F1A4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C1C0B-2B57-4B3E-81FC-7B0B2268C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D95F7-834B-4505-B0D3-ECC5E70D7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860EE-0071-41A8-A685-F87A5F149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B05F9-93E6-4C4D-97EC-3C54C52EC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EF5D4-6484-4081-92AA-28BC5067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728D-439F-41CF-8156-B8FF257C0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2A38B-AF2D-4702-91B7-0A5611BA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99610-9958-4C96-AB32-B980989FD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9CE7E-AA16-4CDB-A211-E3011592C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24424-56E4-491A-977C-912BFAC8D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787F3-E552-406E-9E7B-7062411C5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AD5CB-C5D3-467A-AC35-96497B73B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0C326-1775-4332-969F-0F230C77B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17585-9183-44A7-AC26-F528C8A28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7CE0B-A82D-4EC6-8F5F-75B58EF35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870C5-7564-4303-A4C2-B3F38CC6A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4F02-EB8B-45D4-B24B-F2A6307A3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3426E-3803-4E21-BF58-42F8767C1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AA10E-8AA1-4D52-BB4F-E03ECA43B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0B5FA-0D1D-4754-B775-B61A070F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7DA46-E0DD-4483-9403-9489753E4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C6B72-14ED-46C8-9EC7-1B8F29750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1A64E-FF06-46D0-8D31-48AB62850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65156-F389-4C6E-8F80-A39996CFB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2AF97-62F8-46AA-8A73-530C121A4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1A1F4-6AEF-4F16-9C6A-5B07D504F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B2B8F-DA14-48F3-8C2D-18A757E0C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8A01-46F2-4CA4-9328-E6711100B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1CAD2-E8DF-4150-B7A3-30E371429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7C241-64E9-4E69-B1D6-D93C79F0E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5A6CD-53CC-498D-B32C-CD5BAFFC3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9EDAA-9B0B-4AC2-B153-CB679270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1C38C-D3AC-4BFF-9978-5F71FB92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61222-35EB-42BF-9321-51BBE240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EA2EF-30A2-4947-A677-D01B6D63C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054FD-6243-4C8B-8BBD-27450153F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DE470-49BE-4533-9090-A535349DF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53D4-F437-4EE4-9292-6F1C3BA34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54DB-4478-4251-B8E6-A6D3C7E90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7997-792B-4343-9906-C74DB3DE0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1D00-A380-4B89-A1E2-190699C77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640E-1281-4A73-82FA-80C449B7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D4120-A882-42F7-BF65-AA73420A689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E8C6C-7A9F-491C-942C-A5AA7C03AD33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AA155-DC28-4245-81B1-CE6BDA40523C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0F40A-FABE-47C3-8938-D7B46CD9CAB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kidoo.com/99models/index.htm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444600" y="1255680"/>
            <a:ext cx="852804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onstantia"/>
              </a:rPr>
              <a:t>Chapter 9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onstantia"/>
              </a:rPr>
              <a:t>MR1100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Rectangle 2" descr=""/>
          <p:cNvPicPr/>
          <p:nvPr/>
        </p:nvPicPr>
        <p:blipFill>
          <a:blip r:embed="rId1"/>
          <a:stretch/>
        </p:blipFill>
        <p:spPr>
          <a:xfrm>
            <a:off x="109440" y="298440"/>
            <a:ext cx="8723520" cy="155412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3"/>
          <p:cNvSpPr/>
          <p:nvPr/>
        </p:nvSpPr>
        <p:spPr>
          <a:xfrm>
            <a:off x="304920" y="1752480"/>
            <a:ext cx="480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erceptual maps give a 2 dimensional view of 2 product attributes relative to other competitive produ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4"/>
          <p:cNvSpPr/>
          <p:nvPr/>
        </p:nvSpPr>
        <p:spPr>
          <a:xfrm>
            <a:off x="4419720" y="320040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5"/>
          <p:cNvSpPr/>
          <p:nvPr/>
        </p:nvSpPr>
        <p:spPr>
          <a:xfrm>
            <a:off x="2514600" y="457200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4554720" y="2936880"/>
            <a:ext cx="147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ght ta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7"/>
          <p:cNvSpPr/>
          <p:nvPr/>
        </p:nvSpPr>
        <p:spPr>
          <a:xfrm flipV="1">
            <a:off x="3429000" y="5867280"/>
            <a:ext cx="14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8"/>
          <p:cNvSpPr/>
          <p:nvPr/>
        </p:nvSpPr>
        <p:spPr>
          <a:xfrm>
            <a:off x="4632480" y="5832360"/>
            <a:ext cx="16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avy ta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2117520" y="3927600"/>
            <a:ext cx="8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i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6004440" y="400356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7086600" y="2438280"/>
            <a:ext cx="205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PM Allows Marketers to define the Competi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nalyzing the Marke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ing Survey questions to reveal more than the obviou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ross-Tabulation:  Comparing the answer on one survey question to anothe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Eg: 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4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Q1) How old are you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10-40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41-80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4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Q2) Where do you live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ity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ountr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4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Look at the answers to each question and ask do younger people have a propensity to live in the city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Segmentation Is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Placing prospective buyers into groups (segments)  that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1) Have common needs &amp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2) will respond similarly to a given set of marketing action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Why Segment a Market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Organizations have limited budgets.  Because of this coupled with the need  to maximize profits or maximize shareholder value, most organizations have to make choic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Picking one or a few key segments to target sales allows organizations to channel their scarce resources most effectively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When to Segment a Marke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You should segment your market only if in doing it you can either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Increase sal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Increase profit o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Increase Return on Investment (ROI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Organizations often achieve this by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Selling a single product to several markets – Selling baking soda to bakers and baking soda to athletes as deodorize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Selling several products to several markets – usually the domain of larger firms – car companies make different models for different types of markets/consumer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Mass-customization – this is a new trend that harnesses the power of logistics management and information management systems in such a way that companies can build a product to meet an individual’s taste while at the same time carefully control the costs of doing thi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Steps in Segmenting and targeting markets (1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Form Prospective buyers into Segme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Do so only if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90000"/>
              </a:lnSpc>
              <a:spcBef>
                <a:spcPts val="4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nstantia"/>
              </a:rPr>
              <a:t>you can increase profit/ROI by doing it;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90000"/>
              </a:lnSpc>
              <a:spcBef>
                <a:spcPts val="4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nstantia"/>
              </a:rPr>
              <a:t>only if you can clearly form segments that contain people with similar need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90000"/>
              </a:lnSpc>
              <a:spcBef>
                <a:spcPts val="4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nstantia"/>
              </a:rPr>
              <a:t>The difference between the segments are substantial enough to warrant the segment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90000"/>
              </a:lnSpc>
              <a:spcBef>
                <a:spcPts val="4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nstantia"/>
              </a:rPr>
              <a:t>It is feasible – the cost of reaching the segment is less than the potential revenue received from that segment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Ways to segment a consumer market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90000"/>
              </a:lnSpc>
              <a:spcBef>
                <a:spcPts val="4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nstantia"/>
              </a:rPr>
              <a:t>Region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90000"/>
              </a:lnSpc>
              <a:spcBef>
                <a:spcPts val="4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nstantia"/>
              </a:rPr>
              <a:t>Family Size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90000"/>
              </a:lnSpc>
              <a:spcBef>
                <a:spcPts val="4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nstantia"/>
              </a:rPr>
              <a:t>Lifestyle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90000"/>
              </a:lnSpc>
              <a:spcBef>
                <a:spcPts val="4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nstantia"/>
              </a:rPr>
              <a:t>Potential Benefits Offered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90000"/>
              </a:lnSpc>
              <a:spcBef>
                <a:spcPts val="4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nstantia"/>
              </a:rPr>
              <a:t>Usage Rate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Steps in Segmenting and targeting markets (1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Ways to segment an organizational market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Locati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SIC cod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Number of employe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Steps in Segmenting and targeting markets (2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Form Products to be sold into grou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Break products into categories that match buyers need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Eg: </a:t>
            </a:r>
            <a:r>
              <a:rPr b="0" lang="en-GB" sz="20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Skidoo</a:t>
            </a: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 offer 7 lines of snowmobile models to meet every tast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Steps in Segmenting and targeting markets (3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Develop a Market Product grid and estimate the size, growth, competitive position, cost of reaching each market, as well as assessing the organizations objectiv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Choose a segment or segments that best suit the organizations need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Steps in Segmenting and targeting markets (4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Take Marketing Actions to reach the target marke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There are two basic stratagies to sell products in a competitive environmen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Head to Head</a:t>
            </a: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 - Direct competition, comparing your product with the competitors on similar attributes.  Duracell-Energis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Differentiation</a:t>
            </a: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 - Emphasising differences among your products and others.  Stress unique aspects of the produc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17T17:14:48Z</dcterms:created>
  <dc:creator>Debbie Vincent</dc:creator>
  <dc:description/>
  <dc:language>en-US</dc:language>
  <cp:lastModifiedBy>paul.tilley</cp:lastModifiedBy>
  <dcterms:modified xsi:type="dcterms:W3CDTF">2011-03-24T13:42:26Z</dcterms:modified>
  <cp:revision>6</cp:revision>
  <dc:subject/>
  <dc:title>Market Segmentation, Targeting and Position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ville.northatlantic.nf.ca/~ptilley</vt:lpwstr>
  </property>
  <property fmtid="{D5CDD505-2E9C-101B-9397-08002B2CF9AE}" pid="9" name="LinkColor">
    <vt:r8>16711782</vt:r8>
  </property>
  <property fmtid="{D5CDD505-2E9C-101B-9397-08002B2CF9AE}" pid="10" name="MailAddress">
    <vt:lpwstr>ptilley@cville.northatlantic.nf.ca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Homepage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